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63F-BC72-43AB-9FAC-7C39CA9B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677-A17F-4A1E-AC25-195E7D65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1F0-CF13-44C8-BB0F-75DFC0AD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DD0-9D5C-4073-88CA-352401AFC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EE9-BBBA-4262-AACF-E306F639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6A6-D06C-4923-AE5A-FCA50B8C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A40-14C6-43F9-9C9B-40BE388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868-73E5-4779-951F-86CB605C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503-C636-435D-9FD4-E0A63C0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B36-D521-4268-BC4D-B2E20105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C94-790C-4D27-8B5E-DA04E39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9C4-6B69-4675-839B-0A941F01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8DDA-C7F5-487F-89D6-D79E5351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exasbluebonnetaward2013.wordpress.com/master-lis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00400" y="152280"/>
            <a:ext cx="5486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2012 –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Elementary Level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NameThatBook_logo"/>
          <p:cNvPicPr/>
          <p:nvPr/>
        </p:nvPicPr>
        <p:blipFill>
          <a:blip r:embed="rId1"/>
          <a:stretch/>
        </p:blipFill>
        <p:spPr>
          <a:xfrm>
            <a:off x="838080" y="457200"/>
            <a:ext cx="2286000" cy="1704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304812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ultivating 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aking reading relevant to the 21st 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ringing joy to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51ZqJGpKskL"/>
          <p:cNvPicPr/>
          <p:nvPr/>
        </p:nvPicPr>
        <p:blipFill>
          <a:blip r:embed="rId1"/>
          <a:stretch/>
        </p:blipFill>
        <p:spPr>
          <a:xfrm>
            <a:off x="1676520" y="380880"/>
            <a:ext cx="5371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issing May"/>
          <p:cNvPicPr/>
          <p:nvPr/>
        </p:nvPicPr>
        <p:blipFill>
          <a:blip r:embed="rId1"/>
          <a:stretch/>
        </p:blipFill>
        <p:spPr>
          <a:xfrm>
            <a:off x="2590920" y="1447920"/>
            <a:ext cx="3467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1L6inB%2BAFL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over image for Shiloh"/>
          <p:cNvPicPr/>
          <p:nvPr/>
        </p:nvPicPr>
        <p:blipFill>
          <a:blip r:embed="rId1"/>
          <a:stretch/>
        </p:blipFill>
        <p:spPr>
          <a:xfrm>
            <a:off x="2362320" y="380880"/>
            <a:ext cx="4174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14GRLBwDkL"/>
          <p:cNvPicPr/>
          <p:nvPr/>
        </p:nvPicPr>
        <p:blipFill>
          <a:blip r:embed="rId1"/>
          <a:stretch/>
        </p:blipFill>
        <p:spPr>
          <a:xfrm>
            <a:off x="1981080" y="304920"/>
            <a:ext cx="4991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here the Red Fern Grows: Mcdougal Littell Literature Connections"/>
          <p:cNvPicPr/>
          <p:nvPr/>
        </p:nvPicPr>
        <p:blipFill>
          <a:blip r:embed="rId1"/>
          <a:stretch/>
        </p:blipFill>
        <p:spPr>
          <a:xfrm>
            <a:off x="251460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11pgQ866VL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2120" y="838080"/>
            <a:ext cx="8001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at Book - Book covers from Amazon.com and Follett Libr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bonnet Books - Book co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exasbluebonnetaward2013.wordpress.com/master-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36198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over_image"/>
          <p:cNvPicPr/>
          <p:nvPr/>
        </p:nvPicPr>
        <p:blipFill>
          <a:blip r:embed="rId1"/>
          <a:stretch/>
        </p:blipFill>
        <p:spPr>
          <a:xfrm>
            <a:off x="2871720" y="1676520"/>
            <a:ext cx="219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oey Pigza Loses Control by Jack Gantos"/>
          <p:cNvPicPr/>
          <p:nvPr/>
        </p:nvPicPr>
        <p:blipFill>
          <a:blip r:embed="rId1"/>
          <a:stretch/>
        </p:blipFill>
        <p:spPr>
          <a:xfrm>
            <a:off x="2514600" y="9907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00:42Z</dcterms:created>
  <dc:creator>HISD</dc:creator>
  <dc:description/>
  <dc:language>en-US</dc:language>
  <cp:lastModifiedBy>HISD</cp:lastModifiedBy>
  <dcterms:modified xsi:type="dcterms:W3CDTF">2012-05-11T16:02:05Z</dcterms:modified>
  <cp:revision>1</cp:revision>
  <dc:subject/>
  <dc:title>Slide 1</dc:title>
</cp:coreProperties>
</file>